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B58-EB80-429D-8EFF-85E0F833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8F5-1939-410E-8237-1232C0C9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571-1C49-4305-BB2A-FD2A6139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C56-D2D4-4988-90BA-C5392A81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62E0-C868-4419-8FBF-B8D493AB3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3E60-3B96-4930-9AA8-9B07C554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F223-4B91-4784-A123-A7BAEBDC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827E-6AB6-4689-B7E4-462A6A71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E645-285C-4FB7-ADCB-EAF99485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EBB2-EA12-4B40-A4D1-0240A8C1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C32D-B5E0-400D-8F61-BB4D8A1D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076-E0CD-4355-B72B-AE4AEA1C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5462-3907-497D-ACAD-AE025FA5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66B7-7065-4476-9154-DA15A183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5FD6-75CE-4AE0-8211-E34D8EFD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D0A5-CE60-4493-AFA0-159DAD35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8712-EAC0-404F-B150-D4D01A9E0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68E-888A-417D-9381-3F544DCB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09D-1318-4990-83F6-162EF61F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767-F105-453D-A087-45430E21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C3A-ED1D-4BAC-B325-8458ECE2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3B9-B827-4ABE-A4C1-B23077D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618-BB3B-40D7-BA42-D30558E0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BD5-B1B2-4124-8FE5-F5EB660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D1C5-FA86-447A-9BD1-60A9155205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B02C-E5C8-4ABD-9C67-1B3E636E21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2F8777F4-B6A9-4400-9A16-EF66CA54130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1"/>
          <p:cNvSpPr/>
          <p:nvPr/>
        </p:nvSpPr>
        <p:spPr>
          <a:xfrm>
            <a:off x="571680" y="4419720"/>
            <a:ext cx="8001000" cy="10688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itive – Possessor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'of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ive – Indirect object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'to' or 'fo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538280"/>
          <a:ext cx="6922800" cy="2247840"/>
        </p:xfrm>
        <a:graphic>
          <a:graphicData uri="http://schemas.openxmlformats.org/drawingml/2006/table">
            <a:tbl>
              <a:tblPr/>
              <a:tblGrid>
                <a:gridCol w="1249200"/>
                <a:gridCol w="1568520"/>
                <a:gridCol w="1515960"/>
                <a:gridCol w="1424160"/>
                <a:gridCol w="1164960"/>
              </a:tblGrid>
              <a:tr h="48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th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1"/>
          <p:cNvSpPr/>
          <p:nvPr/>
        </p:nvSpPr>
        <p:spPr>
          <a:xfrm>
            <a:off x="1214280" y="2643120"/>
            <a:ext cx="65674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rticle and noun must agree in gender, case an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C1BD9832-E021-45B2-8028-F32A9A8CD6E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49E8669-9649-4428-AA7B-136219CDD1C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4"/>
          <p:cNvSpPr/>
          <p:nvPr/>
        </p:nvSpPr>
        <p:spPr>
          <a:xfrm>
            <a:off x="357120" y="1071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3.4 Overview of Nouns an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1160" y="1617840"/>
          <a:ext cx="8648640" cy="3841560"/>
        </p:xfrm>
        <a:graphic>
          <a:graphicData uri="http://schemas.openxmlformats.org/drawingml/2006/table">
            <a:tbl>
              <a:tblPr/>
              <a:tblGrid>
                <a:gridCol w="1017360"/>
                <a:gridCol w="939960"/>
                <a:gridCol w="1017360"/>
                <a:gridCol w="1133640"/>
                <a:gridCol w="1133280"/>
                <a:gridCol w="1136880"/>
                <a:gridCol w="1135080"/>
                <a:gridCol w="113508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77"/>
          <p:cNvSpPr/>
          <p:nvPr/>
        </p:nvSpPr>
        <p:spPr>
          <a:xfrm>
            <a:off x="361800" y="556416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ticle endings are the same as the noun except in masc. and fem. nom., and in the neuter (sing.) nom. and a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8840" y="1058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5 Variant Feminin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D7738E32-F446-41E3-8D69-940CD9D0522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500120"/>
          <a:ext cx="7010280" cy="4235400"/>
        </p:xfrm>
        <a:graphic>
          <a:graphicData uri="http://schemas.openxmlformats.org/drawingml/2006/table">
            <a:tbl>
              <a:tblPr/>
              <a:tblGrid>
                <a:gridCol w="1103400"/>
                <a:gridCol w="903240"/>
                <a:gridCol w="1563480"/>
                <a:gridCol w="1459080"/>
                <a:gridCol w="198108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lor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64"/>
          <p:cNvSpPr/>
          <p:nvPr/>
        </p:nvSpPr>
        <p:spPr>
          <a:xfrm>
            <a:off x="1214280" y="5811840"/>
            <a:ext cx="7772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variations between sing. and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wel or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efore end, or s, x, 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e article pattern follows 3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7120" y="5740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85880" y="1214280"/>
          <a:ext cx="7510320" cy="2283120"/>
        </p:xfrm>
        <a:graphic>
          <a:graphicData uri="http://schemas.openxmlformats.org/drawingml/2006/table">
            <a:tbl>
              <a:tblPr/>
              <a:tblGrid>
                <a:gridCol w="1633320"/>
                <a:gridCol w="2122560"/>
                <a:gridCol w="1447920"/>
                <a:gridCol w="230652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tiv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A8B4883-A3CC-4FE9-B368-2EC3EE5C114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628560" y="3506760"/>
            <a:ext cx="780120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 βλεπω δαιμονιον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Peter, I see a dem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 φιλεις τον κυριον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ary! You love the l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2428920" y="5214600"/>
            <a:ext cx="4343400" cy="1085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Kyrie Eleison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ε ἐλε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A04BA0DA-5E85-46A2-A440-63C8FC5211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14200" y="3214800"/>
            <a:ext cx="857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ὀχλοι ζητουσιν τον Ἰησου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crowds are seeking 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ουλος του Ἰησου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slave of Jesus is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1857240" y="5221440"/>
            <a:ext cx="4876920" cy="10616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reek"/>
              </a:rPr>
              <a:t>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Ihsouj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the definite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47880" y="1168560"/>
          <a:ext cx="5653080" cy="1996920"/>
        </p:xfrm>
        <a:graphic>
          <a:graphicData uri="http://schemas.openxmlformats.org/drawingml/2006/table">
            <a:tbl>
              <a:tblPr/>
              <a:tblGrid>
                <a:gridCol w="1208160"/>
                <a:gridCol w="1344600"/>
                <a:gridCol w="1709640"/>
                <a:gridCol w="1390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ocative is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ησου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6840" y="1214280"/>
          <a:ext cx="8939160" cy="4508640"/>
        </p:xfrm>
        <a:graphic>
          <a:graphicData uri="http://schemas.openxmlformats.org/drawingml/2006/table">
            <a:tbl>
              <a:tblPr/>
              <a:tblGrid>
                <a:gridCol w="798480"/>
                <a:gridCol w="825480"/>
                <a:gridCol w="1273320"/>
                <a:gridCol w="1233360"/>
                <a:gridCol w="1182600"/>
                <a:gridCol w="1208160"/>
                <a:gridCol w="1211400"/>
                <a:gridCol w="1206360"/>
              </a:tblGrid>
              <a:tr h="54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13510CF-7A67-4946-8E19-7D276B29268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6B387A8F-B16C-497C-AA09-8D76D4A4E5E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85840" y="1247760"/>
            <a:ext cx="7924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ings of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similarity to the article in neu. nom. and acc. 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nnecessary in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sessive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ses definite article and 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14240" y="3382920"/>
            <a:ext cx="77155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με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υτ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e are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υ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φιλει </a:t>
            </a:r>
            <a:r>
              <a:rPr b="1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υ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ster loves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ὐ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Do you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5948F27-A238-4A56-85FB-7564791EEA5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42880" y="1406520"/>
            <a:ext cx="7772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ἀγγελος του θεου λεγει τον λογο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of God speaks the word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CD4ACCD1-DBF8-4DB1-8390-7169CFAC681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4880" y="1655640"/>
            <a:ext cx="701028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αγγελος λεγει τῳ δουλῳ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3BAC8FEC-7AE7-4A97-86B7-D79F2270F35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85840" y="1339920"/>
            <a:ext cx="11072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αγγελος λεγει τον λογον του θεου τῳ δουλ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he word of God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576360" y="2025720"/>
            <a:ext cx="74959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υ κυρι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e hear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e hear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υσιν τῳ θεὡ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y believe in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0F8E1590-EBF3-43F5-925D-E92F403BB1C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300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PECIAL USES OF THE GENI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E1295A9F-7DE4-4752-8360-A57663A480B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00040" y="1523880"/>
            <a:ext cx="83440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r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3.3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οὐρανος και ἡ γη παρελευσον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a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ar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ll pass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198960"/>
            <a:ext cx="8382240" cy="26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1 The idea of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mascul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femin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ερ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neuter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9"/>
          <p:cNvSpPr/>
          <p:nvPr/>
        </p:nvSpPr>
        <p:spPr>
          <a:xfrm>
            <a:off x="374760" y="12002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2 The Feminine and Neuter Decl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7160" y="1763640"/>
          <a:ext cx="7429680" cy="4449960"/>
        </p:xfrm>
        <a:graphic>
          <a:graphicData uri="http://schemas.openxmlformats.org/drawingml/2006/table">
            <a:tbl>
              <a:tblPr/>
              <a:tblGrid>
                <a:gridCol w="1521000"/>
                <a:gridCol w="1374840"/>
                <a:gridCol w="232884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or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8765DF7F-C683-49A8-8789-5956686F02A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8E9FFD29-76EB-482E-8B16-26A9F697290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00040" y="1428840"/>
            <a:ext cx="731520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om. and acc.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always true in the ne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special rule for neuter plural nou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normally take a singular ver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'children keep the law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τηρουσιν τον νομ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71680" y="4980960"/>
            <a:ext cx="8001000" cy="601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Neuter Plural Nouns take a singular verb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66"/>
          <p:cNvSpPr/>
          <p:nvPr/>
        </p:nvSpPr>
        <p:spPr>
          <a:xfrm>
            <a:off x="347760" y="1143000"/>
            <a:ext cx="7010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3 The feminine and the neuter of the definite article; agre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E61C3EB2-CD75-41D8-8028-1050655F83F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38320" y="2214720"/>
          <a:ext cx="6648480" cy="3992400"/>
        </p:xfrm>
        <a:graphic>
          <a:graphicData uri="http://schemas.openxmlformats.org/drawingml/2006/table">
            <a:tbl>
              <a:tblPr/>
              <a:tblGrid>
                <a:gridCol w="1066680"/>
                <a:gridCol w="933480"/>
                <a:gridCol w="1477800"/>
                <a:gridCol w="1443240"/>
                <a:gridCol w="17272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23:27Z</dcterms:created>
  <dc:creator>Sarah</dc:creator>
  <dc:description/>
  <dc:language>en-US</dc:language>
  <cp:lastModifiedBy>Sarah</cp:lastModifiedBy>
  <dcterms:modified xsi:type="dcterms:W3CDTF">2008-08-26T14:12:26Z</dcterms:modified>
  <cp:revision>48</cp:revision>
  <dc:subject/>
  <dc:title>Slide 1</dc:title>
</cp:coreProperties>
</file>